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782-DFC5-4CF6-BDE6-535EC166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4975-42AA-47BD-8579-1B693297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4C7-E524-4A1C-BD14-19DB77EB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7BC-8A95-48F1-BB00-807D4667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0204-2FE5-4890-92E3-0107AC94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B42-AFDB-4A5A-9A87-9227348A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8E8-7EEE-4312-B8B0-F8E442AE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E2A-FDB0-4CEC-8677-14DE5129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BFF5-EAB0-4D02-AF51-0FA782E7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3512-5DBD-4997-8F14-5E0043B4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91F-79D0-405C-83AC-7454EB68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2FC-4731-4B30-9FEB-F43C920F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BACD-2F87-40B7-9271-B2C8AC29C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55640" y="162864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2924280"/>
            <a:ext cx="4033800" cy="22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delaide"/>
              </a:rPr>
              <a:t>El Maes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delaide"/>
              </a:rPr>
              <a:t>como Pas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55640" y="162864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1628640"/>
            <a:ext cx="6264360" cy="518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5. Cada visita debe ser transformada en una ocasión para conocerse más, para animarse mutuamente en la fe, para orar juntos por las necesidades que pueden estar pasando o agradecer por las victorias de la f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◘ </a:t>
            </a: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Y también es un momento apropiado para intercambiar opiniones sobre la marcha del departamento y de la clase de 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189000"/>
            <a:ext cx="71294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2. EL MAESTRO Y EL MINISTERIO DE LA VISI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162864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000" y="1773360"/>
            <a:ext cx="6264000" cy="481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6. En la visitación, anote los nombres de todos los miembros de la familia (sean o no miembros de la ES o de la Iglesi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◘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En las visitas posteriores, anote los nombres de sus conocidos, vecinos, compañeros de trabajo o parientes de sus alum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◘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Estas informaciones serán muy útiles en la proyección evangelística de su iglesia. Sepa el número de teléfono, fecha de su cumpleaño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189000"/>
            <a:ext cx="71294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2. EL MAESTRO Y EL MINISTERIO DE LA VISI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5640" y="162864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1844640"/>
            <a:ext cx="5977080" cy="409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7. Felicitaciones, usted estar preparado para realizar la visita inicial cuyo propósito es específicamente de amistad y de carácter espirit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◘ </a:t>
            </a: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Dios lo bendiga y fortalezca para la noble tarea que será realizada.</a:t>
            </a: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 Amé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189000"/>
            <a:ext cx="71294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2. EL MAESTRO Y EL MINISTERIO DE LA VISI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55640" y="162864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71640" y="1989000"/>
            <a:ext cx="5977080" cy="409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00"/>
                </a:solidFill>
                <a:latin typeface="Arial"/>
              </a:rPr>
              <a:t>8. No sea solamente usted un visitador; promueva la visita de sus alumnos entre s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189000"/>
            <a:ext cx="71294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2. EL MAESTRO Y EL MINISTERIO DE LA VISI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50920" y="333360"/>
            <a:ext cx="6697800" cy="63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3. UNA VISITA</a:t>
            </a: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68360" y="1700280"/>
            <a:ext cx="6696360" cy="411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宋体"/>
              </a:rPr>
              <a:t>Maestros, visitaos con los miembros de vuestras clases. Orad con ellos, y enseñadles a orar. Enternézcase el corazón, y sean breves y sencillas pero fervientes las peticiones. Sean vuestras palabras pocas y bien escogidas; y aprendan ellos, de vuestros labios y vuestro ejemplo, que la verdad de Dios tiene que estar arraigada en sus corazones, o de lo contrario no podrán soportar la prueba de la tentación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宋体"/>
              </a:rPr>
              <a:t>EGW.  COES, p. 139.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5640" y="162864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1557360"/>
            <a:ext cx="6553440" cy="431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(1) Antes de las Vis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ffff00"/>
                </a:solidFill>
                <a:uFillTx/>
                <a:latin typeface="Arial"/>
              </a:rPr>
              <a:t>Preparación E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- Orar en la Clase por los ausentes, siemp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- Orar pidiendo sabiduría para saber que decir, que callar y que hacer.</a:t>
            </a:r>
            <a:r>
              <a:rPr b="0" lang="es-AR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270000"/>
            <a:ext cx="6840720" cy="422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UNA VISIT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55640" y="162864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11280" y="1279440"/>
            <a:ext cx="6481800" cy="517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ctr">
              <a:spcBef>
                <a:spcPts val="7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(1) Antes de las Vis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ctr">
              <a:spcBef>
                <a:spcPts val="6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ctr">
              <a:spcBef>
                <a:spcPts val="6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Arial"/>
              </a:rPr>
              <a:t>Coordinación Pr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ctr">
              <a:spcBef>
                <a:spcPts val="6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s importante decidir a quien visitar y cuando … no hay ningún problema en que una persona reciba más de una vis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Ojala pudiésemos hacer esto siempre … el problema se da cuando una persona que esta faltando recibe más de una visita y otra ning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4000" y="270000"/>
            <a:ext cx="6840720" cy="422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UNA VISIT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162864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84360" y="1279440"/>
            <a:ext cx="6408720" cy="53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ctr">
              <a:spcBef>
                <a:spcPts val="7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(1) Antes de las Vis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ctr"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ctr"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00"/>
                </a:solidFill>
                <a:uFillTx/>
                <a:latin typeface="Arial"/>
              </a:rPr>
              <a:t>Preparación  Práctica</a:t>
            </a: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ctr"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Intente conseguir cualquier información que pueda serle útil: edad, ocupación, como esta formada su familia, si es miembro de iglesia, desde cuando, si está pasando alguna dificultad en particular, etc.</a:t>
            </a:r>
            <a:r>
              <a:rPr b="0" lang="es-AR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270000"/>
            <a:ext cx="6840720" cy="422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UNA VISIT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62864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56000" y="1341360"/>
            <a:ext cx="6337080" cy="496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ctr">
              <a:spcBef>
                <a:spcPts val="799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(2) Durante las Visi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2001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Ore con su compañero de visitas antes de sa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2001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Tenga en mente todos los datos de a quien va a visit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2001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ocure tener una actitud alegre, optimista, y mucho tac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2001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Si Ud. no conoce a la persona, preséntese como miembro o maestro de la 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2001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.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Si Ud. conoce a la persona, sin duda, el contacto será totalmente difer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270000"/>
            <a:ext cx="6840720" cy="422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UNA VISIT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55640" y="162864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1268280"/>
            <a:ext cx="6481800" cy="504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ctr">
              <a:spcBef>
                <a:spcPts val="799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(2) Durante las Vis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749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F.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Transmita los saludos de su clase de ES. Puede inclusive, preparar una tarjeta simple con un mensaje de la clase con la firma de los demás miembros de la cl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749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G.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omente con alegría como fue la clase de ese día o del Sábado pas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749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H.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Déle la seguridad de que toda la clase esta orando por ella (el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749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I.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Recuérdele que toda la clase estará esperándolo verlo de nuevo el próximo Sáb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749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J.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Hable alegrías y de hermosos recuer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270000"/>
            <a:ext cx="6840720" cy="422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UMA VISIT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84360" y="631800"/>
            <a:ext cx="6408720" cy="574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En los primeros 10 minutos, de los 55 que tiene, el maestr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Da la Bienveni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Pasa el registro de asist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Confraterniza con su cl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Presenta a las visitas a los miembros nuev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Organiza la visitación a los alumnos ausent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Es aquí donde él se preocupa por sus alumnos, individualmente como su “pastor”.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5640" y="162864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907920"/>
            <a:ext cx="6481800" cy="576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(2) Durante las Vis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K.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Si la persona le presenta algún problema en espec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Oiga con simpatía, no argumente, ni conde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Asegúrese de que el sienta que se le está escuchando con aten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ea un pasaje bíblico o cuente una experiencia que lo haya ayudado a reaccionar positivamente en algún incidente negativo similar.  Si está a su alcance, ayúdelo en la necesidad present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.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Intente reforzar la amistad con él y de él con la cl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24000" y="270000"/>
            <a:ext cx="6840720" cy="422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UNA VISIT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162864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44840" y="1855800"/>
            <a:ext cx="6203880" cy="409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(3) Después de la Vis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Organice algún sistema para llevar algún control de las visitas realizadas</a:t>
            </a:r>
            <a:r>
              <a:rPr b="0" lang="es-AR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270000"/>
            <a:ext cx="6840720" cy="422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UNA VISIT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5640" y="162864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270000"/>
            <a:ext cx="73454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EL MAESTRO</a:t>
            </a:r>
            <a:br>
              <a:rPr sz="3600"/>
            </a:b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COMO PAS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916280"/>
            <a:ext cx="6624720" cy="388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Tenemos un pastor cada 1.156 hermanos y un maestro cada 13.9 alum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Tenemos un pastor cada 8.8 iglesias y el maestro solo tiene una clase a su c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¿Cuál de los dos podrá dar una atención mas personalizada, el pastor o el maest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162864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84360" y="343080"/>
            <a:ext cx="6408720" cy="618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El maestro se propone, como primera tarea, visitar a sus alumnos para desarrollar una amistad sinc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Procura conocerlos a cada uno, de acuerdo con su condición y cultura, con la finalidad de ayudarlos en todos los asp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Atiende sus necesidades y se interesa por todos en to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Crea un vínculo afectivo entre sus alumnos y, con su ejemplo, hace desaparecer todo antagon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981000"/>
            <a:ext cx="73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1047600"/>
            <a:ext cx="6192720" cy="497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宋体"/>
              </a:rPr>
              <a:t>El maestro debería estudiar cuidadosamente la disposición y el carácter de sus alumnos, para poder adaptar su enseñanza a sus necesidades particular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Consejos para padres y maestros, p. 231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162864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5280" y="189000"/>
            <a:ext cx="71294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2. EL MAESTRO Y EL MINISTERIO DE LA VISI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56000" y="2133720"/>
            <a:ext cx="6130800" cy="409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1. Ubique la dirección de sus alumnos en un mapa, marcándol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  <a:ea typeface="Arial"/>
              </a:rPr>
              <a:t>◘ </a:t>
            </a: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Identifique el sector  geográfico o área en que Usted debe pastorear como maest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5640" y="162864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1989000"/>
            <a:ext cx="6264000" cy="33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2. Ahora debe planear cuando hará cada una de las visi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◘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Use una hoja para planificar, coloque, nombres, direcciones, fechas.  Con ayuda de una sencilla planificación podrá coordinar junto con su clase como y quien hará cada vis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189000"/>
            <a:ext cx="71294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2. EL MAESTRO Y EL MINISTERIO DE LA VISI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5640" y="162864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1855800"/>
            <a:ext cx="66596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3. La visitación puede ser uno o dos veces por trimest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  <a:ea typeface="Arial"/>
              </a:rPr>
              <a:t>◘ </a:t>
            </a:r>
            <a:r>
              <a:rPr b="1" lang="es-AR" sz="3200" spc="-1" strike="noStrike">
                <a:solidFill>
                  <a:srgbClr val="ffff00"/>
                </a:solidFill>
                <a:latin typeface="Arial"/>
                <a:ea typeface="Arial"/>
              </a:rPr>
              <a:t>Recuerde ordenar a los alumnos por áreas y crear el mejor amb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189000"/>
            <a:ext cx="71294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2. EL MAESTRO Y EL MINISTERIO DE LA VISI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55640" y="162864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1844640"/>
            <a:ext cx="6408720" cy="46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4. Estas visitas pueden ser realizadas en compañía del coordinador de interesados o líder misionero de la cl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  <a:ea typeface="Arial"/>
              </a:rPr>
              <a:t>◘ </a:t>
            </a:r>
            <a:r>
              <a:rPr b="1" lang="es-AR" sz="3200" spc="-1" strike="noStrike">
                <a:solidFill>
                  <a:srgbClr val="ffff00"/>
                </a:solidFill>
                <a:latin typeface="Arial"/>
                <a:ea typeface="Arial"/>
              </a:rPr>
              <a:t>Es aconsejable ir acompañado por la (el)</a:t>
            </a: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 esposa(o), en caso de visitar a alumnos del sexo opuesto o que viven so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189000"/>
            <a:ext cx="71294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2. EL MAESTRO Y EL MINISTERIO DE LA VISI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3:06:20Z</dcterms:created>
  <dc:creator>Ivan</dc:creator>
  <dc:description/>
  <dc:language>en-US</dc:language>
  <cp:lastModifiedBy>Ivan</cp:lastModifiedBy>
  <dcterms:modified xsi:type="dcterms:W3CDTF">2007-03-21T17:06:39Z</dcterms:modified>
  <cp:revision>101</cp:revision>
  <dc:subject/>
  <dc:title>Slide 1</dc:title>
</cp:coreProperties>
</file>